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548DCBD-968F-408A-89C5-524F766AA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0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208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3E6978E1-E6E8-455D-AE98-5572D1DE48DA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283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94880" y="873000"/>
            <a:ext cx="5748480" cy="4905360"/>
            <a:chOff x="1694880" y="873000"/>
            <a:chExt cx="5748480" cy="4905360"/>
          </a:xfrm>
        </p:grpSpPr>
        <p:sp>
          <p:nvSpPr>
            <p:cNvPr id="114" name=""/>
            <p:cNvSpPr/>
            <p:nvPr/>
          </p:nvSpPr>
          <p:spPr>
            <a:xfrm>
              <a:off x="169488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9640" y="2279520"/>
              <a:ext cx="1060560" cy="5270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57640" y="1482840"/>
              <a:ext cx="1060200" cy="67932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43160" y="1371600"/>
              <a:ext cx="0" cy="9018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5760" y="1930320"/>
              <a:ext cx="434880" cy="5954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240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91080" y="2168640"/>
              <a:ext cx="511200" cy="831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08400" y="2778120"/>
              <a:ext cx="12049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</a:t>
              </a: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57760" y="3200400"/>
              <a:ext cx="0" cy="444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7760" y="4191120"/>
              <a:ext cx="0" cy="825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6680" y="5022720"/>
              <a:ext cx="4338360" cy="755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08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2040" y="1371600"/>
              <a:ext cx="0" cy="9018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6496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7136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11720" y="2895480"/>
              <a:ext cx="768240" cy="139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2876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360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484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92400" y="2435400"/>
            <a:ext cx="68580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7388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432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faa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60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1093680"/>
            <a:ext cx="4719600" cy="567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näitesi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lgu meil programmiju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b ≠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a &gt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:= a −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:= b −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66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73188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xer jagab teksti “sõnadeks” ja parser ehitab neist pu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71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9720" y="2651040"/>
            <a:ext cx="804852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süntaksi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arser ehi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lu süntaksipu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da siis eda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öödeld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77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1141560"/>
            <a:ext cx="5932440" cy="54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puud mä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iin näitepuus koosneb iga element väärtusest ja kahest mäluaadressist. Null tähistab aadressi 0, mida normaalselt aadressina ei kasut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299520"/>
            <a:ext cx="7763040" cy="304920"/>
            <a:chOff x="914400" y="299520"/>
            <a:chExt cx="7763040" cy="304920"/>
          </a:xfrm>
        </p:grpSpPr>
        <p:sp>
          <p:nvSpPr>
            <p:cNvPr id="183" name=""/>
            <p:cNvSpPr/>
            <p:nvPr/>
          </p:nvSpPr>
          <p:spPr>
            <a:xfrm>
              <a:off x="914400" y="598320"/>
              <a:ext cx="77583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77440" y="299520"/>
              <a:ext cx="0" cy="3049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Fortran, G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teisendab 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ö pseudo-assembleriks / vahekoodi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asub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d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14400" y="417600"/>
            <a:ext cx="7765920" cy="311040"/>
            <a:chOff x="914400" y="417600"/>
            <a:chExt cx="7765920" cy="311040"/>
          </a:xfrm>
        </p:grpSpPr>
        <p:sp>
          <p:nvSpPr>
            <p:cNvPr id="189" name=""/>
            <p:cNvSpPr/>
            <p:nvPr/>
          </p:nvSpPr>
          <p:spPr>
            <a:xfrm>
              <a:off x="914400" y="7225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80320" y="4176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lgu meil väike näite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1,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or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Hello"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417600"/>
            <a:ext cx="7765920" cy="311040"/>
            <a:chOff x="914400" y="417600"/>
            <a:chExt cx="7765920" cy="311040"/>
          </a:xfrm>
        </p:grpSpPr>
        <p:sp>
          <p:nvSpPr>
            <p:cNvPr id="194" name=""/>
            <p:cNvSpPr/>
            <p:nvPr/>
          </p:nvSpPr>
          <p:spPr>
            <a:xfrm>
              <a:off x="914400" y="7225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680320" y="4176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eeldetuletu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eelmis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loengu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protsessor ja assemble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ja andmestruktuu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pileerimine vs interpret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 suur pi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opulaars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eelte põhiideed ja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58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 kommentaar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de   6404005c02005a00005a0100650000700700016501006f0d00016402004765000047486e010001640300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           0 LOAD_CONST               4 ((1, 0)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UNPACK_SEQUENCE         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 STORE_NAME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9 STORE_NAME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          12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5 JUMP_IF_TRUE             7 (to 25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 LOAD_NAME 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 JUMP_IF_FALSE           13 (to 38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25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         26 LOAD_CONST               2 ('Hello'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9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0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3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4 PRINT_NEWLI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5 JUMP_FORWARD             1 (to 39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9 LOAD_CONST               3 (Non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2 RETURN_VAL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14400" y="417600"/>
            <a:ext cx="7765920" cy="311040"/>
            <a:chOff x="914400" y="417600"/>
            <a:chExt cx="7765920" cy="311040"/>
          </a:xfrm>
        </p:grpSpPr>
        <p:sp>
          <p:nvSpPr>
            <p:cNvPr id="199" name=""/>
            <p:cNvSpPr/>
            <p:nvPr/>
          </p:nvSpPr>
          <p:spPr>
            <a:xfrm>
              <a:off x="914400" y="7225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80320" y="4176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erpreteerimise 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mpromissvaria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ndi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C#, Firefoxi Javascrip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hrome V8 Javascript kompileerib algul kogu programmi masinkoodiks kiire kompilaatoriga, seejärel kompileerib töö käigus selgunud kriitilised kohad aeglasema optimeeriva kompilaatoriga, mis annab kiiremini töötava tulem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204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57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209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escription language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son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 for data re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{“name”: “John Smith”, “age”: 35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ddress”:  {“city”:”Tallinn”, “street”: “Mere”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 for text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1&gt;Pealkiri&lt;/h1&gt;&lt;p&gt;üks &lt;b&gt;bold sõna&lt;/b&gt;&lt;/p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for database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ect name, age  from persons where age&gt;1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57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214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nii palju ke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valdkondade / eesmärkide jaoks ei ole ühte ideaalset ke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jate eelistused on erine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ka DSL (domain specific languag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Domain-specific_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1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kolm põhi-erinevustee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22240" y="731880"/>
            <a:ext cx="7766280" cy="311040"/>
            <a:chOff x="822240" y="731880"/>
            <a:chExt cx="7766280" cy="311040"/>
          </a:xfrm>
        </p:grpSpPr>
        <p:sp>
          <p:nvSpPr>
            <p:cNvPr id="224" name=""/>
            <p:cNvSpPr/>
            <p:nvPr/>
          </p:nvSpPr>
          <p:spPr>
            <a:xfrm>
              <a:off x="822240" y="103644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588520" y="73188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ilised asjad igas normaalses kee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5480" y="457200"/>
            <a:ext cx="7765920" cy="311040"/>
            <a:chOff x="825480" y="457200"/>
            <a:chExt cx="7765920" cy="311040"/>
          </a:xfrm>
        </p:grpSpPr>
        <p:sp>
          <p:nvSpPr>
            <p:cNvPr id="229" name=""/>
            <p:cNvSpPr/>
            <p:nvPr/>
          </p:nvSpPr>
          <p:spPr>
            <a:xfrm>
              <a:off x="82548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59140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avõimalused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3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3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4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63" name="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4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5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5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6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6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274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ythoni vahekood: keerukamat lisalugem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nedbatchelder.com/blog/200804/the_structure_of_pyc_fil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infohost.nmt.edu/tcc/soft/pythondoc/lib/bytecod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www.python.org/dev/peps/pep-033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arxiv.org/pdf/1306.6047v2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279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68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73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78" name="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eerimiskeeled on inimeste jaok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vut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 saa programmeerimiskeelest midagi aru. Talle on vaja masinkood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rogrammeerimiskeeled on selleks, et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imes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oleks lihtsam programme kirjutada ja nendest pärast aru sa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83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inalähedane ja ebamugav:  Fortran, C  (portaabel assemb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bstraktsem ja mugavam:  Lisp, Ada, ML, Java, Pyth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äringukeeled (SQL, RDQ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junduskeeled (HTML, PS, 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petsifitseerimiskeeled (loogikakeeled, UM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88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0-15T06:38:24Z</dcterms:modified>
  <cp:revision>45</cp:revision>
  <dc:subject/>
  <dc:title>PowerPoint Presentation</dc:title>
</cp:coreProperties>
</file>